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7239-D136-4FAD-AE1E-CE68807F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AB73-6C41-4ABD-A27C-E1843C5D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22AB-3ABA-4E3A-8E5E-F0C1FBEF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F85F-75B3-426C-B399-FB0ABEDB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99CD-F2A3-4FCE-AE6D-3D36A99B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58C6-455A-4C59-80D3-34450B91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41DA-E4D3-430B-ABD7-E9A4AC7A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1B15-1FC3-4612-988B-3401F00C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A9E7-0B4A-461D-A0EE-4E146459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DF9D-31DF-49F8-B144-DDB2B519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5D58-061F-4653-B9BA-39833124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4FFC-15C1-4B51-867A-3AD22C5D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47A6-F7B0-45B4-B4CA-EEA216FD0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top-level domai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TLD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, sometimes referred to as a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top-level domain nam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is the last part of an Internet Domain name, that is, the group of letters that follow the final dot of any domain nam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For example…..in the URL…..www.google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om (or COM) is the Top Level Doma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LD’s are generally organized into categories that are established by organizations who oversee management of the Intern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re are a few of the most commonly used Top Level Domain N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.mil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ilitary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.mil TLD is limited to use by the U.S. milita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alibri"/>
              </a:rPr>
              <a:t>.gov</a:t>
            </a:r>
            <a:br>
              <a:rPr sz="2200"/>
            </a:b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Governmen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.gov TLD is limited to U.S. governmental entities and agencies (mostly but not exclusively federal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.edu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ducational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.edu TLD is limited to institutions of learn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ubtitle 2"/>
          <p:cNvSpPr/>
          <p:nvPr/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Calibri"/>
              </a:rPr>
              <a:t>.org</a:t>
            </a:r>
            <a:br>
              <a:rPr sz="2600"/>
            </a:b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rga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an open TLD; any person or entity is permitted to regi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ubtitle 2"/>
          <p:cNvSpPr/>
          <p:nvPr/>
        </p:nvSpPr>
        <p:spPr>
          <a:xfrm>
            <a:off x="1371600" y="228600"/>
            <a:ext cx="6400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.com</a:t>
            </a:r>
            <a:br>
              <a:rPr sz="2600"/>
            </a:b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mmercial</a:t>
            </a:r>
            <a:br>
              <a:rPr sz="26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an open TLD; any person or entity is permitted to regi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8:10:50Z</dcterms:created>
  <dc:creator>Administrator</dc:creator>
  <dc:description/>
  <dc:language>en-US</dc:language>
  <cp:lastModifiedBy>Administrator</cp:lastModifiedBy>
  <dcterms:modified xsi:type="dcterms:W3CDTF">2009-03-10T18:42:07Z</dcterms:modified>
  <cp:revision>16</cp:revision>
  <dc:subject/>
  <dc:title>A top-level domain (TLD), sometimes referred to as a top-level domain name, is the last part of an Internet Domain name, that is, the group of letters that follow the final dot of any domain name.</dc:title>
</cp:coreProperties>
</file>